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40E7-5854-44DD-AB94-D36A2CAC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E94C-A113-4594-91CF-28243D6A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FDE1-4011-46E9-BED1-EEB17A12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9BF6-DF78-49BA-8E87-12A498F0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9CC9-28FD-478F-86E1-A45745CA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DFFD-3844-4F61-9473-719F3884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0148-9274-410B-AA78-0DF20AAA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9262-2869-4941-9794-1C87D814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D166-CCE1-475E-948B-6054B82A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283C-98BA-45E8-BD6F-F77A6EFE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F043-22DD-42CD-ABDB-37CF2E26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DC81-C924-479D-8E00-721747A1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5A05-876D-4B74-9157-2CE6A0BA5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3000" y="0"/>
            <a:ext cx="61722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IAGRAMME C-K Groupe BLEU (suite aux 48h) partie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3860640" y="539640"/>
            <a:ext cx="3181680" cy="81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K12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transpir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29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ran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coussin d’ai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31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poids du sa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32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Hélium, ballon de baudruch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33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ballot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34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ea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3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sous vi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36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einture en mous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37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aim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38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scrat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39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chausset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4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beauté du pays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41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Appareil pho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42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lunet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43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ciné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44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v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4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dessin animé, écr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46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rêve, plaisir, fantai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47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pris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48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jeu vidé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49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motiv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Perform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51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Hologram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52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ordinateur/logici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53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Liv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54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salle de s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5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élast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56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communication, conviviali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57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Talkie walk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58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Blanche nei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59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miroir (électroniqu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K6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attirance anatom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Connecteur droit 93"/>
          <p:cNvSpPr/>
          <p:nvPr/>
        </p:nvSpPr>
        <p:spPr>
          <a:xfrm>
            <a:off x="3283920" y="611280"/>
            <a:ext cx="73080" cy="835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à coins arrondis 129"/>
          <p:cNvSpPr/>
          <p:nvPr/>
        </p:nvSpPr>
        <p:spPr>
          <a:xfrm rot="19915200">
            <a:off x="847800" y="5378400"/>
            <a:ext cx="588960" cy="2305080"/>
          </a:xfrm>
          <a:custGeom>
            <a:avLst/>
            <a:gdLst>
              <a:gd name="textAreaLeft" fmla="*/ 28440 w 588960"/>
              <a:gd name="textAreaRight" fmla="*/ 560520 w 588960"/>
              <a:gd name="textAreaTop" fmla="*/ 28440 h 2305080"/>
              <a:gd name="textAreaBottom" fmla="*/ 2276640 h 2305080"/>
            </a:gdLst>
            <a:ahLst/>
            <a:rect l="textAreaLeft" t="textAreaTop" r="textAreaRight" b="textAreaBottom"/>
            <a:pathLst>
              <a:path w="21600" h="84500">
                <a:moveTo>
                  <a:pt x="3600" y="0"/>
                </a:moveTo>
                <a:arcTo wR="3600" hR="3600" stAng="16200000" swAng="-5400000"/>
                <a:lnTo>
                  <a:pt x="0" y="80900"/>
                </a:lnTo>
                <a:arcTo wR="3600" hR="3600" stAng="10800000" swAng="-5400000"/>
                <a:lnTo>
                  <a:pt x="18000" y="84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à coins arrondis 132"/>
          <p:cNvSpPr/>
          <p:nvPr/>
        </p:nvSpPr>
        <p:spPr>
          <a:xfrm rot="13280400">
            <a:off x="1197000" y="7308360"/>
            <a:ext cx="122400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1413000" y="684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4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1413000" y="118728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à coins arrondis 132"/>
          <p:cNvSpPr/>
          <p:nvPr/>
        </p:nvSpPr>
        <p:spPr>
          <a:xfrm rot="14733000">
            <a:off x="1052280" y="5003640"/>
            <a:ext cx="136872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à coins arrondis 132"/>
          <p:cNvSpPr/>
          <p:nvPr/>
        </p:nvSpPr>
        <p:spPr>
          <a:xfrm rot="19489200">
            <a:off x="549360" y="4858920"/>
            <a:ext cx="13669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à coins arrondis 132"/>
          <p:cNvSpPr/>
          <p:nvPr/>
        </p:nvSpPr>
        <p:spPr>
          <a:xfrm rot="15325200">
            <a:off x="1323720" y="2959920"/>
            <a:ext cx="10969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à coins arrondis 132"/>
          <p:cNvSpPr/>
          <p:nvPr/>
        </p:nvSpPr>
        <p:spPr>
          <a:xfrm rot="16200000">
            <a:off x="1188000" y="1872360"/>
            <a:ext cx="936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à coins arrondis 132"/>
          <p:cNvSpPr/>
          <p:nvPr/>
        </p:nvSpPr>
        <p:spPr>
          <a:xfrm rot="16200000">
            <a:off x="1188360" y="864000"/>
            <a:ext cx="936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à coins arrondis 129"/>
          <p:cNvSpPr/>
          <p:nvPr/>
        </p:nvSpPr>
        <p:spPr>
          <a:xfrm rot="18449400">
            <a:off x="921600" y="4055400"/>
            <a:ext cx="588960" cy="1333440"/>
          </a:xfrm>
          <a:custGeom>
            <a:avLst/>
            <a:gdLst>
              <a:gd name="textAreaLeft" fmla="*/ 28440 w 588960"/>
              <a:gd name="textAreaRight" fmla="*/ 560520 w 588960"/>
              <a:gd name="textAreaTop" fmla="*/ 28440 h 1333440"/>
              <a:gd name="textAreaBottom" fmla="*/ 1305000 h 1333440"/>
            </a:gdLst>
            <a:ahLst/>
            <a:rect l="textAreaLeft" t="textAreaTop" r="textAreaRight" b="textAreaBottom"/>
            <a:pathLst>
              <a:path w="21600" h="48887">
                <a:moveTo>
                  <a:pt x="3600" y="0"/>
                </a:moveTo>
                <a:arcTo wR="3600" hR="3600" stAng="16200000" swAng="-5400000"/>
                <a:lnTo>
                  <a:pt x="0" y="45287"/>
                </a:lnTo>
                <a:arcTo wR="3600" hR="3600" stAng="10800000" swAng="-5400000"/>
                <a:lnTo>
                  <a:pt x="18000" y="488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à coins arrondis 129"/>
          <p:cNvSpPr/>
          <p:nvPr/>
        </p:nvSpPr>
        <p:spPr>
          <a:xfrm rot="1806600">
            <a:off x="909360" y="3564000"/>
            <a:ext cx="588960" cy="1333440"/>
          </a:xfrm>
          <a:custGeom>
            <a:avLst/>
            <a:gdLst>
              <a:gd name="textAreaLeft" fmla="*/ 28440 w 588960"/>
              <a:gd name="textAreaRight" fmla="*/ 560520 w 588960"/>
              <a:gd name="textAreaTop" fmla="*/ 28440 h 1333440"/>
              <a:gd name="textAreaBottom" fmla="*/ 1305000 h 1333440"/>
            </a:gdLst>
            <a:ahLst/>
            <a:rect l="textAreaLeft" t="textAreaTop" r="textAreaRight" b="textAreaBottom"/>
            <a:pathLst>
              <a:path w="21600" h="48887">
                <a:moveTo>
                  <a:pt x="3600" y="0"/>
                </a:moveTo>
                <a:arcTo wR="3600" hR="3600" stAng="16200000" swAng="-5400000"/>
                <a:lnTo>
                  <a:pt x="0" y="45287"/>
                </a:lnTo>
                <a:arcTo wR="3600" hR="3600" stAng="10800000" swAng="-5400000"/>
                <a:lnTo>
                  <a:pt x="18000" y="488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à coins arrondis 129"/>
          <p:cNvSpPr/>
          <p:nvPr/>
        </p:nvSpPr>
        <p:spPr>
          <a:xfrm rot="2899200">
            <a:off x="1784520" y="2140920"/>
            <a:ext cx="503280" cy="11905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1190520"/>
              <a:gd name="textAreaBottom" fmla="*/ 1166040 h 1190520"/>
            </a:gdLst>
            <a:ahLst/>
            <a:rect l="textAreaLeft" t="textAreaTop" r="textAreaRight" b="textAreaBottom"/>
            <a:pathLst>
              <a:path w="21600" h="51074">
                <a:moveTo>
                  <a:pt x="3600" y="0"/>
                </a:moveTo>
                <a:arcTo wR="3600" hR="3600" stAng="16200000" swAng="-5400000"/>
                <a:lnTo>
                  <a:pt x="0" y="47474"/>
                </a:lnTo>
                <a:arcTo wR="3600" hR="3600" stAng="10800000" swAng="-5400000"/>
                <a:lnTo>
                  <a:pt x="18000" y="510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à coins arrondis 129"/>
          <p:cNvSpPr/>
          <p:nvPr/>
        </p:nvSpPr>
        <p:spPr>
          <a:xfrm>
            <a:off x="2089080" y="2268360"/>
            <a:ext cx="503280" cy="122400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1224000"/>
              <a:gd name="textAreaBottom" fmla="*/ 1199520 h 1224000"/>
            </a:gdLst>
            <a:ahLst/>
            <a:rect l="textAreaLeft" t="textAreaTop" r="textAreaRight" b="textAreaBottom"/>
            <a:pathLst>
              <a:path w="21600" h="52510">
                <a:moveTo>
                  <a:pt x="3600" y="0"/>
                </a:moveTo>
                <a:arcTo wR="3600" hR="3600" stAng="16200000" swAng="-5400000"/>
                <a:lnTo>
                  <a:pt x="0" y="48910"/>
                </a:lnTo>
                <a:arcTo wR="3600" hR="3600" stAng="10800000" swAng="-5400000"/>
                <a:lnTo>
                  <a:pt x="18000" y="52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à coins arrondis 129"/>
          <p:cNvSpPr/>
          <p:nvPr/>
        </p:nvSpPr>
        <p:spPr>
          <a:xfrm>
            <a:off x="1297080" y="1189080"/>
            <a:ext cx="588960" cy="1008000"/>
          </a:xfrm>
          <a:custGeom>
            <a:avLst/>
            <a:gdLst>
              <a:gd name="textAreaLeft" fmla="*/ 28440 w 588960"/>
              <a:gd name="textAreaRight" fmla="*/ 560520 w 588960"/>
              <a:gd name="textAreaTop" fmla="*/ 28440 h 1008000"/>
              <a:gd name="textAreaBottom" fmla="*/ 979560 h 1008000"/>
            </a:gdLst>
            <a:ahLst/>
            <a:rect l="textAreaLeft" t="textAreaTop" r="textAreaRight" b="textAreaBottom"/>
            <a:pathLst>
              <a:path w="21600" h="36959">
                <a:moveTo>
                  <a:pt x="3600" y="0"/>
                </a:moveTo>
                <a:arcTo wR="3600" hR="3600" stAng="16200000" swAng="-5400000"/>
                <a:lnTo>
                  <a:pt x="0" y="33359"/>
                </a:lnTo>
                <a:arcTo wR="3600" hR="3600" stAng="10800000" swAng="-5400000"/>
                <a:lnTo>
                  <a:pt x="18000" y="369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1341360" y="1692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1486080" y="212400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1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549360" y="23400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1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360360" y="336600"/>
            <a:ext cx="1800360" cy="2963880"/>
          </a:xfrm>
          <a:custGeom>
            <a:avLst/>
            <a:gdLst/>
            <a:ahLst/>
            <a:rect l="l" t="t" r="r" b="b"/>
            <a:pathLst>
              <a:path w="1134" h="1867">
                <a:moveTo>
                  <a:pt x="45" y="1625"/>
                </a:moveTo>
                <a:cubicBezTo>
                  <a:pt x="90" y="1383"/>
                  <a:pt x="416" y="438"/>
                  <a:pt x="590" y="219"/>
                </a:cubicBezTo>
                <a:cubicBezTo>
                  <a:pt x="764" y="0"/>
                  <a:pt x="1044" y="272"/>
                  <a:pt x="1089" y="310"/>
                </a:cubicBezTo>
                <a:cubicBezTo>
                  <a:pt x="1134" y="348"/>
                  <a:pt x="953" y="416"/>
                  <a:pt x="862" y="446"/>
                </a:cubicBezTo>
                <a:cubicBezTo>
                  <a:pt x="771" y="476"/>
                  <a:pt x="635" y="287"/>
                  <a:pt x="544" y="491"/>
                </a:cubicBezTo>
                <a:cubicBezTo>
                  <a:pt x="453" y="695"/>
                  <a:pt x="401" y="1482"/>
                  <a:pt x="318" y="1671"/>
                </a:cubicBezTo>
                <a:cubicBezTo>
                  <a:pt x="235" y="1860"/>
                  <a:pt x="0" y="1867"/>
                  <a:pt x="45" y="1625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1197000" y="730872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2340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2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2134800" y="30592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1558440" y="270036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2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1701720" y="3348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2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1628640" y="9000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1628640" y="1403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1557360" y="1908000"/>
            <a:ext cx="14436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836640" y="900000"/>
            <a:ext cx="6494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1917720" y="22683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2349360" y="2556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917720" y="255600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1844640" y="2916360"/>
            <a:ext cx="73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844640" y="684360"/>
            <a:ext cx="201600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844640" y="826920"/>
            <a:ext cx="201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844640" y="971640"/>
            <a:ext cx="20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1844640" y="1332000"/>
            <a:ext cx="2016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1844640" y="1403280"/>
            <a:ext cx="2016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773360" y="971640"/>
            <a:ext cx="2087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1773360" y="1835280"/>
            <a:ext cx="208728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1773360" y="1907640"/>
            <a:ext cx="2087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1917720" y="2268360"/>
            <a:ext cx="19429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494080" y="971640"/>
            <a:ext cx="136656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565360" y="1908000"/>
            <a:ext cx="1295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565360" y="2484000"/>
            <a:ext cx="12952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09360" y="971640"/>
            <a:ext cx="287964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980640" y="2484360"/>
            <a:ext cx="2879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494080" y="971640"/>
            <a:ext cx="136656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565360" y="3131640"/>
            <a:ext cx="12952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133720" y="3348000"/>
            <a:ext cx="180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1844640" y="900000"/>
            <a:ext cx="20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981000" y="385128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4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65000" y="435600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1268280" y="478800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3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620640" y="514836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3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1773360" y="550872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3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549360" y="565164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3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620640" y="8101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3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1486080" y="845964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1341360" y="7236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3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1844640" y="766764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3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1341360" y="6227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4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1989000" y="6588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3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052280" y="4067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1125360" y="4572000"/>
            <a:ext cx="28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80640" y="500364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1628640" y="5003640"/>
            <a:ext cx="4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909720" y="5867280"/>
            <a:ext cx="57636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765000" y="5867280"/>
            <a:ext cx="7164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1052640" y="8244000"/>
            <a:ext cx="504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1701720" y="7451640"/>
            <a:ext cx="2872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1773360" y="6443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836640" y="5867280"/>
            <a:ext cx="72072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412640" y="3635280"/>
            <a:ext cx="244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413000" y="3850920"/>
            <a:ext cx="2447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1413000" y="3995640"/>
            <a:ext cx="24476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96640" y="4356000"/>
            <a:ext cx="2592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1197000" y="4500720"/>
            <a:ext cx="26636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1197000" y="4500720"/>
            <a:ext cx="2663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701720" y="3924360"/>
            <a:ext cx="21589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701720" y="4642920"/>
            <a:ext cx="21589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701720" y="4932360"/>
            <a:ext cx="21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1701360" y="4859280"/>
            <a:ext cx="215892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052640" y="4140000"/>
            <a:ext cx="2808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052640" y="5148000"/>
            <a:ext cx="2808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1052640" y="5292720"/>
            <a:ext cx="280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2204640" y="5651280"/>
            <a:ext cx="1655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204640" y="5651280"/>
            <a:ext cx="165564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276640" y="5651280"/>
            <a:ext cx="158400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981000" y="5796000"/>
            <a:ext cx="2879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980640" y="5724000"/>
            <a:ext cx="2879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980640" y="5724000"/>
            <a:ext cx="28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773360" y="6372000"/>
            <a:ext cx="20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420640" y="6732720"/>
            <a:ext cx="1439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2421000" y="6804000"/>
            <a:ext cx="1439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1052640" y="824400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052640" y="8028000"/>
            <a:ext cx="2808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844640" y="853272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701720" y="6227640"/>
            <a:ext cx="35892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060640" y="755640"/>
            <a:ext cx="1800000" cy="54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276640" y="7524720"/>
            <a:ext cx="1584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2276640" y="781200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1773360" y="7380000"/>
            <a:ext cx="20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1773360" y="7451640"/>
            <a:ext cx="20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à coins arrondis 129"/>
          <p:cNvSpPr/>
          <p:nvPr/>
        </p:nvSpPr>
        <p:spPr>
          <a:xfrm rot="18426600">
            <a:off x="849960" y="5293440"/>
            <a:ext cx="588960" cy="1629000"/>
          </a:xfrm>
          <a:custGeom>
            <a:avLst/>
            <a:gdLst>
              <a:gd name="textAreaLeft" fmla="*/ 28440 w 588960"/>
              <a:gd name="textAreaRight" fmla="*/ 560520 w 588960"/>
              <a:gd name="textAreaTop" fmla="*/ 28440 h 1629000"/>
              <a:gd name="textAreaBottom" fmla="*/ 1600560 h 1629000"/>
            </a:gdLst>
            <a:ahLst/>
            <a:rect l="textAreaLeft" t="textAreaTop" r="textAreaRight" b="textAreaBottom"/>
            <a:pathLst>
              <a:path w="21600" h="59720">
                <a:moveTo>
                  <a:pt x="3600" y="0"/>
                </a:moveTo>
                <a:arcTo wR="3600" hR="3600" stAng="16200000" swAng="-5400000"/>
                <a:lnTo>
                  <a:pt x="0" y="56120"/>
                </a:lnTo>
                <a:arcTo wR="3600" hR="3600" stAng="10800000" swAng="-5400000"/>
                <a:lnTo>
                  <a:pt x="18000" y="59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à coins arrondis 129"/>
          <p:cNvSpPr/>
          <p:nvPr/>
        </p:nvSpPr>
        <p:spPr>
          <a:xfrm rot="17632800">
            <a:off x="916560" y="7733160"/>
            <a:ext cx="598320" cy="1333440"/>
          </a:xfrm>
          <a:custGeom>
            <a:avLst/>
            <a:gdLst>
              <a:gd name="textAreaLeft" fmla="*/ 29160 w 598320"/>
              <a:gd name="textAreaRight" fmla="*/ 569160 w 598320"/>
              <a:gd name="textAreaTop" fmla="*/ 29160 h 1333440"/>
              <a:gd name="textAreaBottom" fmla="*/ 1304280 h 1333440"/>
            </a:gdLst>
            <a:ahLst/>
            <a:rect l="textAreaLeft" t="textAreaTop" r="textAreaRight" b="textAreaBottom"/>
            <a:pathLst>
              <a:path w="21600" h="48123">
                <a:moveTo>
                  <a:pt x="3600" y="0"/>
                </a:moveTo>
                <a:arcTo wR="3600" hR="3600" stAng="16200000" swAng="-5400000"/>
                <a:lnTo>
                  <a:pt x="0" y="44523"/>
                </a:lnTo>
                <a:arcTo wR="3600" hR="3600" stAng="10800000" swAng="-5400000"/>
                <a:lnTo>
                  <a:pt x="18000" y="481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à coins arrondis 129"/>
          <p:cNvSpPr/>
          <p:nvPr/>
        </p:nvSpPr>
        <p:spPr>
          <a:xfrm>
            <a:off x="549360" y="5580000"/>
            <a:ext cx="588960" cy="2952720"/>
          </a:xfrm>
          <a:custGeom>
            <a:avLst/>
            <a:gdLst>
              <a:gd name="textAreaLeft" fmla="*/ 28440 w 588960"/>
              <a:gd name="textAreaRight" fmla="*/ 560520 w 588960"/>
              <a:gd name="textAreaTop" fmla="*/ 28440 h 2952720"/>
              <a:gd name="textAreaBottom" fmla="*/ 2924280 h 2952720"/>
            </a:gdLst>
            <a:ahLst/>
            <a:rect l="textAreaLeft" t="textAreaTop" r="textAreaRight" b="textAreaBottom"/>
            <a:pathLst>
              <a:path w="21600" h="108238">
                <a:moveTo>
                  <a:pt x="3600" y="0"/>
                </a:moveTo>
                <a:arcTo wR="3600" hR="3600" stAng="16200000" swAng="-5400000"/>
                <a:lnTo>
                  <a:pt x="0" y="104638"/>
                </a:lnTo>
                <a:arcTo wR="3600" hR="3600" stAng="10800000" swAng="-5400000"/>
                <a:lnTo>
                  <a:pt x="18000" y="1082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à coins arrondis 129"/>
          <p:cNvSpPr/>
          <p:nvPr/>
        </p:nvSpPr>
        <p:spPr>
          <a:xfrm rot="17783400">
            <a:off x="1640520" y="5928480"/>
            <a:ext cx="588960" cy="1333800"/>
          </a:xfrm>
          <a:custGeom>
            <a:avLst/>
            <a:gdLst>
              <a:gd name="textAreaLeft" fmla="*/ 28440 w 588960"/>
              <a:gd name="textAreaRight" fmla="*/ 560520 w 588960"/>
              <a:gd name="textAreaTop" fmla="*/ 28440 h 1333800"/>
              <a:gd name="textAreaBottom" fmla="*/ 1305360 h 1333800"/>
            </a:gdLst>
            <a:ahLst/>
            <a:rect l="textAreaLeft" t="textAreaTop" r="textAreaRight" b="textAreaBottom"/>
            <a:pathLst>
              <a:path w="21600" h="48900">
                <a:moveTo>
                  <a:pt x="3600" y="0"/>
                </a:moveTo>
                <a:arcTo wR="3600" hR="3600" stAng="16200000" swAng="-5400000"/>
                <a:lnTo>
                  <a:pt x="0" y="45300"/>
                </a:lnTo>
                <a:arcTo wR="3600" hR="3600" stAng="10800000" swAng="-5400000"/>
                <a:lnTo>
                  <a:pt x="18000" y="48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00:12:20Z</dcterms:created>
  <dc:creator>miyah971</dc:creator>
  <dc:description/>
  <dc:language>en-US</dc:language>
  <cp:lastModifiedBy>Alain Nussbaumer</cp:lastModifiedBy>
  <dcterms:modified xsi:type="dcterms:W3CDTF">2009-12-17T23:23:53Z</dcterms:modified>
  <cp:revision>37</cp:revision>
  <dc:subject/>
  <dc:title>Diapositive 1</dc:title>
</cp:coreProperties>
</file>